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144-4E9E-4276-8AA0-4CC0B185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F4F-ABC9-4B0B-A67B-03481A03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D0B9-9F02-4509-A51A-A7392B46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42E-0FFE-4471-AEA2-5BDC5D77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A576-FCD8-4C10-A1D4-374800B7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6DA4-2E00-4EEC-8A5A-783F0823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FAAA-DECF-4CC0-A812-21EE34E7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3AA2-DD6F-4158-BE49-47CD983B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9A30-5E11-4B30-8614-48B1CFE3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C904-9A1E-4057-B9DF-19CFB472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DE06-344E-49FA-A46D-A40F098E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CBB-C5FF-4D65-BDBD-8CAAD059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28D8-291E-44C8-B3C9-A0495BCF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AB17-88BF-418C-B5C2-05B641FA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FCA0-37BC-4E69-B942-DDFA4E29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4345-FAF9-48D5-A70E-92E045D8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A8B7-0CFC-45DC-A8B8-F91F3373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9AE-0ABD-41D5-9D82-B29CDE34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B9C-A69E-4C16-87D0-FF01F04A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053-AD3B-49FC-A4F9-30324E70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35F-0B17-4FEE-A390-CE056895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3D1-990D-4B8F-A3CB-E834F643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76C-5AFA-401E-AA06-8D2D4A80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A21-7118-45D0-9C07-DDD87640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SzPct val="1124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AA42-46A1-42F6-8749-21E465882781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2DB8-F569-4BCD-A7DA-1A4C895DCD49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110000"/>
              <a:buFont typeface="Genev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90000"/>
              <a:buFont typeface="Genev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reating Man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14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formula for character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What are we doing?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Head up your page Character Scene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Use your imagination and invent a character by giving them a first name and a last name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n follow the instructions that I am going to give step by step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(full name) and action sentence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(fill in the blank), he/she thought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Pronoun and active action sentence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Memory or thought about the past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Action sentence that concludes the scene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5331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Jane Doe took hold of the chainsaw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06520" indent="-506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I wonder how messy this will be, she thought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06520" indent="-506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She opened the door softly and stepped quietly into the room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06520" indent="-506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She thought of her last husband and a time when her life had been much simpler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06520" indent="-506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Jane moved quietly to the edge of the bed where the man lay sleeping, then smiling coldly, she pulled the cord and brought the chainsaw to life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Description Formula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81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(full name) standing in front of the mirror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A physically descriptive sentence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Pronoun and descriptive sentence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(fill in the blank), she thought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Concluding action and leave mirror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004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Jane Doe stood in front of the mirror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The wrinkles around her eyes seemed deeper than she remembered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She lifted a trembling hand to her short, dark hair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Where has the time gone, she thought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She lowered her hand, shook her head sadly, and walked away from the mirror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0:47:33Z</dcterms:created>
  <dc:creator>Ministry of Education</dc:creator>
  <dc:description/>
  <dc:language>en-US</dc:language>
  <cp:lastModifiedBy>Ministry of Education</cp:lastModifiedBy>
  <dcterms:modified xsi:type="dcterms:W3CDTF">2011-02-03T00:47:41Z</dcterms:modified>
  <cp:revision>3</cp:revision>
  <dc:subject/>
  <dc:title>Creating Man</dc:title>
</cp:coreProperties>
</file>